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DA37-E8F2-43E3-969A-34739C83532E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041D-E6A7-4B84-A500-71F19CFD7850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ilarepa 10 €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é en 1960, Eric-Emmanuel Schmitt est devenu en dix ans l'auteur de théâtre le plus joué en France comme à l'étranger. Milarepa fait partie d'une trilogie, avec Monsieur Ibrahim et les fleurs du Coran et Oscar et la dame ro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imon fait chaque nuit le même rêve dont une femme énigmatique lui livre la clef : il est la réincarnation de l'oncle de Milarepa, le célèbre ermite tibétain du XIème siècle, qui vouait à son neveu une haine inexplicable. Pour sortir du cycle des renaissances, Simon doit raconter l'histoire des deux hommes, s'identifiant à eux au point de confondre leur identité à la sienne. Mais où commence le rêve, où finit le réel 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L'Évangile selon Pilate est le deuxième roman écrit par l'auteur français Éric-Emmanuel Schmitt. Il est paru en 200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l raconte les événements de la fin de la vie de Jésus et des semaines suivantes à travers le regard de Jésus, puis celui du préfet Ponce Pil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remière partie. Dans les jardins de Gethsemani, Jésus réfléchit à sa vie et aux derniers moments de son parcours. Surtout, il pense à ce qui arrivera le matin suivant. Quand les soldats viendront l'arrêter, le plan qu'il a mis au point avec Judas Iscariote pour faire connaître la parole de Dieu à tous, sera lancé. Mais, Jésus doute : est-il vraiment le fils de Dieu 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Deuxième partie. Le préfet romain, Ponce Pilate, explique par des lettres à son frère comment il a mené la mission de retrouver le cadavre d'un crucifié nommé Jésus. Cette disparition semble agiter les Juifs et la femme de Pilate qui a été convertie par le prophète en ques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5636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590DC-26D2-4C0F-9EB4-8C815B386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C4164-1FD1-4986-89A3-D3B4D9D6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381A2-7F71-4B0B-BABE-D9881F45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039D2-A339-42F6-B825-37D5E44D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11B68-99E7-4546-9B18-208845FF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123640" y="475920"/>
            <a:ext cx="6202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09AA6-DE75-453F-8220-20503654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6C8AF-054F-4B54-9FE2-B8D66F57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9EDE5-90D0-411B-B259-E00E1199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D19A8-BDA7-4143-9B4B-EF143B2B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5636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0CB85-92AC-4BA5-9384-97CEBF14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6E25C1-6AB2-4B3B-8DF1-ECDBE0F22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7E023-229B-4531-AB32-B01B7736F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23640" y="475920"/>
            <a:ext cx="6202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portrait_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9"/>
          <p:cNvSpPr/>
          <p:nvPr/>
        </p:nvSpPr>
        <p:spPr>
          <a:xfrm>
            <a:off x="8242200" y="6524640"/>
            <a:ext cx="8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JLL-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index_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0CEF-DA62-4CD6-9DA8-DF66D13E7243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4292640"/>
            <a:ext cx="6400800" cy="173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333399"/>
                </a:solidFill>
                <a:latin typeface="Comic Sans MS"/>
              </a:rPr>
              <a:t>ÉRIC-EMMANUEL SCHMIT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Lucida Calligraphy"/>
              </a:rPr>
              <a:t>Mediagraphie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Girard, Josée. </a:t>
            </a:r>
            <a:r>
              <a:rPr b="0" i="1" lang="fr-CA" sz="2000" spc="-1" strike="noStrike">
                <a:solidFill>
                  <a:srgbClr val="000000"/>
                </a:solidFill>
                <a:latin typeface="Arial"/>
              </a:rPr>
              <a:t>Oscar et la dame rose, étude guidée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, Baie-Comeau, 2006, 24 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Pierre, Catherine. </a:t>
            </a:r>
            <a:r>
              <a:rPr b="0" i="1" lang="fr-CA" sz="2000" spc="-1" strike="noStrike">
                <a:solidFill>
                  <a:srgbClr val="000000"/>
                </a:solidFill>
                <a:latin typeface="Arial"/>
              </a:rPr>
              <a:t>Oscar et la dame rose, dossier pédagogique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, Antigone, 2005, 41 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000000"/>
                </a:solidFill>
                <a:latin typeface="Arial"/>
              </a:rPr>
              <a:t>Contact. L’Encyclopédie de la création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: http://www.contacttv.net/i_extraits_video.php?id_rubrique=26 (consulté le 12 octobre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Éric-Emmanuel Schmitt. Le site officiel, http://www.eric-emmanuel-schmitt.com/ (consulté le 12 octobre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Lucida Calligraphy"/>
              </a:rPr>
              <a:t>Biographie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3848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é en 1960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ainte-Foy-lès-Lyon (20000 h.)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ents professeurs d'éducation physique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ère boxeur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tudes en philosophi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’abord, enseignant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t à Bruxel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3" descr="france-map"/>
          <p:cNvPicPr/>
          <p:nvPr/>
        </p:nvPicPr>
        <p:blipFill>
          <a:blip r:embed="rId1"/>
          <a:stretch/>
        </p:blipFill>
        <p:spPr>
          <a:xfrm>
            <a:off x="5292720" y="2349360"/>
            <a:ext cx="3238560" cy="355788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sp>
        <p:nvSpPr>
          <p:cNvPr id="95" name="Oval 14"/>
          <p:cNvSpPr/>
          <p:nvPr/>
        </p:nvSpPr>
        <p:spPr>
          <a:xfrm>
            <a:off x="7020000" y="4005360"/>
            <a:ext cx="936720" cy="64764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Lucida Calligraphy"/>
              </a:rPr>
              <a:t>Son oeuvre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40208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S’est d’abord fait connaître au théât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Le Visiteu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1993)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Le Liberti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1997)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A aussi écrit un essai sur Dider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9782226109637-g"/>
          <p:cNvPicPr/>
          <p:nvPr/>
        </p:nvPicPr>
        <p:blipFill>
          <a:blip r:embed="rId1"/>
          <a:stretch/>
        </p:blipFill>
        <p:spPr>
          <a:xfrm>
            <a:off x="5580000" y="2060640"/>
            <a:ext cx="2438640" cy="3744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Lucida Calligraphy"/>
              </a:rPr>
              <a:t>Son œuvre (suite)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2421000"/>
            <a:ext cx="4691160" cy="41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333399"/>
                </a:solidFill>
                <a:latin typeface="Arial"/>
              </a:rPr>
              <a:t>A écrit des romans, do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000000"/>
                </a:solidFill>
                <a:latin typeface="Arial"/>
              </a:rPr>
              <a:t>L’Évangile selon Pilate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(1994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000000"/>
                </a:solidFill>
                <a:latin typeface="Arial"/>
              </a:rPr>
              <a:t>Ma vie avec Mozart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(200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333399"/>
                </a:solidFill>
                <a:latin typeface="Arial"/>
              </a:rPr>
              <a:t>A écrit des récits qui forment le « Cycle de l’invisible 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000000"/>
                </a:solidFill>
                <a:latin typeface="Arial"/>
              </a:rPr>
              <a:t>Milarepa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(199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000000"/>
                </a:solidFill>
                <a:latin typeface="Arial"/>
              </a:rPr>
              <a:t>Monsieur Ibrahim et les fleurs du Coran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(2001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000000"/>
                </a:solidFill>
                <a:latin typeface="Arial"/>
              </a:rPr>
              <a:t>Oscar et la dame rose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(2002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000000"/>
                </a:solidFill>
                <a:latin typeface="Arial"/>
              </a:rPr>
              <a:t>L’Enfant de Noé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(200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HBschmitt_os"/>
          <p:cNvPicPr/>
          <p:nvPr/>
        </p:nvPicPr>
        <p:blipFill>
          <a:blip r:embed="rId1"/>
          <a:srcRect l="21459" t="0" r="21837" b="0"/>
          <a:stretch/>
        </p:blipFill>
        <p:spPr>
          <a:xfrm>
            <a:off x="5724360" y="2276640"/>
            <a:ext cx="2909880" cy="4105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Lucida Calligraphy"/>
              </a:rPr>
              <a:t>Son œuvre (suite)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2421000"/>
            <a:ext cx="368316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Il a scénarisé deux de ses œuvre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Le Liberti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200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Monsieur Ibrahim et les fleurs de Cora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200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monsieur_ibrahim_et_les_fleurs_du_c_1"/>
          <p:cNvPicPr/>
          <p:nvPr/>
        </p:nvPicPr>
        <p:blipFill>
          <a:blip r:embed="rId1"/>
          <a:stretch/>
        </p:blipFill>
        <p:spPr>
          <a:xfrm>
            <a:off x="6692760" y="2349360"/>
            <a:ext cx="2416320" cy="338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Libertin"/>
          <p:cNvPicPr/>
          <p:nvPr/>
        </p:nvPicPr>
        <p:blipFill>
          <a:blip r:embed="rId2"/>
          <a:stretch/>
        </p:blipFill>
        <p:spPr>
          <a:xfrm>
            <a:off x="4224240" y="2349360"/>
            <a:ext cx="2435400" cy="3359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0" descr="oscar_dame_rose"/>
          <p:cNvPicPr/>
          <p:nvPr/>
        </p:nvPicPr>
        <p:blipFill>
          <a:blip r:embed="rId1"/>
          <a:stretch/>
        </p:blipFill>
        <p:spPr>
          <a:xfrm>
            <a:off x="5229360" y="0"/>
            <a:ext cx="3914640" cy="3105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Oscar_italien"/>
          <p:cNvPicPr/>
          <p:nvPr/>
        </p:nvPicPr>
        <p:blipFill>
          <a:blip r:embed="rId2"/>
          <a:stretch/>
        </p:blipFill>
        <p:spPr>
          <a:xfrm>
            <a:off x="5508720" y="3429000"/>
            <a:ext cx="2209680" cy="333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8" name="Picture 12" descr="Oscar_jeu"/>
          <p:cNvPicPr/>
          <p:nvPr/>
        </p:nvPicPr>
        <p:blipFill>
          <a:blip r:embed="rId3"/>
          <a:stretch/>
        </p:blipFill>
        <p:spPr>
          <a:xfrm>
            <a:off x="1979640" y="0"/>
            <a:ext cx="1666800" cy="2295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Oscar_pub"/>
          <p:cNvPicPr/>
          <p:nvPr/>
        </p:nvPicPr>
        <p:blipFill>
          <a:blip r:embed="rId4"/>
          <a:stretch/>
        </p:blipFill>
        <p:spPr>
          <a:xfrm>
            <a:off x="7286760" y="2781360"/>
            <a:ext cx="1857240" cy="2619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Copie de n153517"/>
          <p:cNvPicPr/>
          <p:nvPr/>
        </p:nvPicPr>
        <p:blipFill>
          <a:blip r:embed="rId5"/>
          <a:stretch/>
        </p:blipFill>
        <p:spPr>
          <a:xfrm>
            <a:off x="0" y="2705040"/>
            <a:ext cx="3009960" cy="4152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" descr="Copie de Oscar 44"/>
          <p:cNvPicPr/>
          <p:nvPr/>
        </p:nvPicPr>
        <p:blipFill>
          <a:blip r:embed="rId6"/>
          <a:stretch/>
        </p:blipFill>
        <p:spPr>
          <a:xfrm>
            <a:off x="3132000" y="3187800"/>
            <a:ext cx="2286000" cy="3670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Copie de Oscar illustré"/>
          <p:cNvPicPr/>
          <p:nvPr/>
        </p:nvPicPr>
        <p:blipFill>
          <a:blip r:embed="rId7"/>
          <a:stretch/>
        </p:blipFill>
        <p:spPr>
          <a:xfrm>
            <a:off x="3670200" y="404640"/>
            <a:ext cx="1803600" cy="244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Lucida Calligraphy"/>
              </a:rPr>
              <a:t>Les thèmes de son œuvre</a:t>
            </a:r>
            <a:br>
              <a:rPr sz="4000"/>
            </a:br>
            <a:r>
              <a:rPr b="0" lang="fr-CA" sz="1800" spc="-1" strike="noStrike">
                <a:solidFill>
                  <a:srgbClr val="000000"/>
                </a:solidFill>
                <a:latin typeface="Lucida Calligraphy"/>
              </a:rPr>
              <a:t>(selon </a:t>
            </a:r>
            <a:r>
              <a:rPr b="0" i="1" lang="fr-CA" sz="1800" spc="-1" strike="noStrike">
                <a:solidFill>
                  <a:srgbClr val="000000"/>
                </a:solidFill>
                <a:latin typeface="Lucida Calligraphy"/>
              </a:rPr>
              <a:t>Wikipedia)</a:t>
            </a:r>
            <a:endParaRPr b="0" lang="en-US" sz="18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333399"/>
                </a:solidFill>
                <a:latin typeface="Arial"/>
              </a:rPr>
              <a:t>Mise en scène de personnages célèbr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Sigmund Freud dans </a:t>
            </a:r>
            <a:r>
              <a:rPr b="0" i="1" lang="fr-CA" sz="1600" spc="-1" strike="noStrike">
                <a:solidFill>
                  <a:srgbClr val="000000"/>
                </a:solidFill>
                <a:latin typeface="Arial"/>
              </a:rPr>
              <a:t>Le Visiteur</a:t>
            </a: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 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Diderot dans </a:t>
            </a:r>
            <a:r>
              <a:rPr b="0" i="1" lang="fr-CA" sz="1600" spc="-1" strike="noStrike">
                <a:solidFill>
                  <a:srgbClr val="000000"/>
                </a:solidFill>
                <a:latin typeface="Arial"/>
              </a:rPr>
              <a:t>Le Libertin </a:t>
            </a: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Ponce Pilate, Jésus-Christ et Judas dans </a:t>
            </a:r>
            <a:r>
              <a:rPr b="0" i="1" lang="fr-CA" sz="1600" spc="-1" strike="noStrike">
                <a:solidFill>
                  <a:srgbClr val="000000"/>
                </a:solidFill>
                <a:latin typeface="Arial"/>
              </a:rPr>
              <a:t>L'Évangile selon Pilate </a:t>
            </a: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Adolf Hitler dans </a:t>
            </a:r>
            <a:r>
              <a:rPr b="0" i="1" lang="fr-CA" sz="1600" spc="-1" strike="noStrike">
                <a:solidFill>
                  <a:srgbClr val="000000"/>
                </a:solidFill>
                <a:latin typeface="Arial"/>
              </a:rPr>
              <a:t>La Part de l'autre</a:t>
            </a: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333399"/>
                </a:solidFill>
                <a:latin typeface="Arial"/>
              </a:rPr>
              <a:t>La relig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Le bouddhisme dans </a:t>
            </a:r>
            <a:r>
              <a:rPr b="0" i="1" lang="fr-CA" sz="1600" spc="-1" strike="noStrike">
                <a:solidFill>
                  <a:srgbClr val="000000"/>
                </a:solidFill>
                <a:latin typeface="Arial"/>
              </a:rPr>
              <a:t>Milarepa </a:t>
            </a: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L'islam et le judaïsme dans </a:t>
            </a:r>
            <a:r>
              <a:rPr b="0" i="1" lang="fr-CA" sz="1600" spc="-1" strike="noStrike">
                <a:solidFill>
                  <a:srgbClr val="000000"/>
                </a:solidFill>
                <a:latin typeface="Arial"/>
              </a:rPr>
              <a:t>Monsieur Ibrahim et les fleurs du Coran,</a:t>
            </a: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 dans </a:t>
            </a:r>
            <a:r>
              <a:rPr b="0" i="1" lang="fr-CA" sz="1600" spc="-1" strike="noStrike">
                <a:solidFill>
                  <a:srgbClr val="000000"/>
                </a:solidFill>
                <a:latin typeface="Arial"/>
              </a:rPr>
              <a:t>L'Enfant de Noé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Le christianisme dans </a:t>
            </a:r>
            <a:r>
              <a:rPr b="0" i="1" lang="fr-CA" sz="1600" spc="-1" strike="noStrike">
                <a:solidFill>
                  <a:srgbClr val="000000"/>
                </a:solidFill>
                <a:latin typeface="Arial"/>
              </a:rPr>
              <a:t>L'Évangile selon Pilate et Oscar et la dame rose </a:t>
            </a: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333399"/>
                </a:solidFill>
                <a:latin typeface="Arial"/>
              </a:rPr>
              <a:t>Réflexion sur la place de l'enfant dans la famil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600" spc="-1" strike="noStrike">
                <a:solidFill>
                  <a:srgbClr val="000000"/>
                </a:solidFill>
                <a:latin typeface="Arial"/>
              </a:rPr>
              <a:t>Monsieur Ibrahim et les fleurs du Coran</a:t>
            </a: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fr-CA" sz="1600" spc="-1" strike="noStrike">
                <a:solidFill>
                  <a:srgbClr val="000000"/>
                </a:solidFill>
                <a:latin typeface="Arial"/>
              </a:rPr>
              <a:t>Oscar et la dame rose</a:t>
            </a: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i="1" lang="fr-CA" sz="1600" spc="-1" strike="noStrike">
                <a:solidFill>
                  <a:srgbClr val="000000"/>
                </a:solidFill>
                <a:latin typeface="Arial"/>
              </a:rPr>
              <a:t>L'Enfant de Noé</a:t>
            </a: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À chaque fois, un enfant adopte une nouvelle famille, un nouveau pè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908000" y="190080"/>
            <a:ext cx="7236000" cy="361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Sa pièce </a:t>
            </a:r>
            <a:r>
              <a:rPr b="0" i="1" lang="fr-CA" sz="3000" spc="-1" strike="noStrike">
                <a:solidFill>
                  <a:srgbClr val="000000"/>
                </a:solidFill>
                <a:latin typeface="Arial"/>
              </a:rPr>
              <a:t>Le Visiteur</a:t>
            </a: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 a remporté trois Moliè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Il a remporté le prix de L’Académie française en 2001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Son œuvre est traduite dans 40 pay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L’auteur français contemporain le plus lu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evangile_pilate"/>
          <p:cNvPicPr/>
          <p:nvPr/>
        </p:nvPicPr>
        <p:blipFill>
          <a:blip r:embed="rId1"/>
          <a:stretch/>
        </p:blipFill>
        <p:spPr>
          <a:xfrm>
            <a:off x="3635280" y="4005360"/>
            <a:ext cx="1927440" cy="2879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Ma vie avec Mozart"/>
          <p:cNvPicPr/>
          <p:nvPr/>
        </p:nvPicPr>
        <p:blipFill>
          <a:blip r:embed="rId2"/>
          <a:stretch/>
        </p:blipFill>
        <p:spPr>
          <a:xfrm>
            <a:off x="5435640" y="4005360"/>
            <a:ext cx="1957320" cy="2879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b1c928d4-c16c-4ec1-a187-00593d8ed0d8"/>
          <p:cNvPicPr/>
          <p:nvPr/>
        </p:nvPicPr>
        <p:blipFill>
          <a:blip r:embed="rId3"/>
          <a:stretch/>
        </p:blipFill>
        <p:spPr>
          <a:xfrm>
            <a:off x="1763640" y="3978360"/>
            <a:ext cx="1881360" cy="2879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L76PNJ7D"/>
          <p:cNvPicPr/>
          <p:nvPr/>
        </p:nvPicPr>
        <p:blipFill>
          <a:blip r:embed="rId4"/>
          <a:stretch/>
        </p:blipFill>
        <p:spPr>
          <a:xfrm>
            <a:off x="7394400" y="3978360"/>
            <a:ext cx="1785960" cy="2879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La%20parte%20de%20lautre"/>
          <p:cNvPicPr/>
          <p:nvPr/>
        </p:nvPicPr>
        <p:blipFill>
          <a:blip r:embed="rId5"/>
          <a:stretch/>
        </p:blipFill>
        <p:spPr>
          <a:xfrm>
            <a:off x="0" y="4005360"/>
            <a:ext cx="180504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Lucida Calligraphy"/>
              </a:rPr>
              <a:t>Quelques idées d’Éric-Emmanuel Schmitt</a:t>
            </a:r>
            <a:endParaRPr b="0" lang="en-US" sz="40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2637000"/>
            <a:ext cx="856908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ller sur le site officiel de Schmitt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Voir et entendre Schmitt à l’émission Cont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Cultiver sa capacité d’émerveillement », p.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À l’approche de la mort », p.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Profession de foi », p.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Je ne suis pas l’écrivain que j’aurais voulu être », p.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Quand l’écrivain se met à table », p.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3:24:51Z</dcterms:created>
  <dc:creator>Jean-Louis Lessard</dc:creator>
  <dc:description/>
  <dc:language>en-US</dc:language>
  <cp:lastModifiedBy>Sarah Shackelford</cp:lastModifiedBy>
  <dcterms:modified xsi:type="dcterms:W3CDTF">2009-08-07T19:47:38Z</dcterms:modified>
  <cp:revision>19</cp:revision>
  <dc:subject/>
  <dc:title>Diapositive 1</dc:title>
</cp:coreProperties>
</file>